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5197-9254-41A7-B321-2C0A6D88B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0BBA-001F-427D-9284-8CD2F08A5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7169-490A-4CD7-818F-EAA9892C3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2A7F-481F-49E8-BC09-8176A953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4692-EF20-4C9F-AD5E-781D51532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1C40-231D-4803-A419-3FC3171CD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1A24-77B4-420E-B2F7-89675E62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FD82-4162-4CAA-876A-C67100BF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D06A-96D5-4544-B310-53C94089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3695-A6E6-4852-A4B5-CEC9ED8D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3EBE-C7C6-43BD-88B8-C602B45C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BB03-4F8D-4A76-8D63-2F0436AF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31DC-6CFE-42FD-930D-3ADBB3C0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8805-1D7B-4F55-9648-704B6401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C5E3-DFFD-421B-A1C1-E366D1483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aimah Mun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Hola! Mi llamo Naimah. Yo tengo catorce años. Yo vivo en New York. Mis dos hermanos esta fuerte. Mis dos hermanas esta buena.Yo soy joven y divertida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1-30T18:27:01Z</dcterms:modified>
  <cp:revision>103</cp:revision>
  <dc:subject/>
  <dc:title>Profile</dc:title>
</cp:coreProperties>
</file>